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7AB2-912F-4B1A-B149-D7DFCC15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F520-EDE4-4C58-8DA1-505B92E0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C3B6-BC79-4EFD-96BA-69B0607B1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6DDF-E74B-469A-9C0F-ADD6968FA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BA25-DE53-49D2-A5A5-1D0901F7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39A0-54F7-42D3-858D-654814F4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F627-2425-42B4-B62B-B99582F1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049A-B57C-447A-894B-C88DBF7B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3050-6DEC-4003-826B-4307B1CB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D668-7B90-4650-815C-316B0F61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D64C-39A0-4301-BFC2-C631F4C2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31E1-4050-4A13-A2C9-559E5ABF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5232-757C-478A-BAC5-C76628792F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cope of Practice and Licen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1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dical Law and Eth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ailure to meet continuing education requi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erformance of duties beyond the scope of a lic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ishones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onviction of a felo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elegation of practice of medicine to an unlicensed individ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er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fined a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– “A voluntary credentialing process whereby applicants who meet specific requirements may receive a certificate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ertification by a professional organization, usually through an examination, signifies that an applicant has attained a certain level of knowledge and ski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fined a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– “A credentialing procedure whereby one’s name is listed on a register as having paid a fee and/or met certain criteria within a profes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ccredi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914040"/>
            <a:ext cx="91440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fined as –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“Official authorization or approval for conforming to a specified standard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–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Joint Commission on Accreditation of Healthcare Organizations (JCAHO)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credits health care organizations that meet certain standard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Give me 3 examples of organizations that require accrediation.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spitals of any type, HMOs, PPOs, Home Health services, Medical Equipment Supply companies, Nursing homes, Mental health facilities, any outpatient treatment facilities, laboratories including blood donation organization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usnews.nbcnews.com/_news/2013/03/03/17167379-nurse-refuses-to-perform-cpr-despite-911-dispatchers-plea?l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cope of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Based in state licensing laws and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Sets legal framework for service delivery by a specific health profession in a st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4272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SzPct val="10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Defines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parameters of practic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for a profess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4272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SzPct val="10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Limits practic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to people who successfully complete specified education and/or training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4272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SzPct val="10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Restricts use of title and/or credential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to license holders in the profes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Designed to provide consumer prote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cope of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en-US" sz="4800" spc="-1" strike="noStrike">
                <a:solidFill>
                  <a:srgbClr val="000000"/>
                </a:solidFill>
                <a:latin typeface="Calibri"/>
              </a:rPr>
              <a:t>One hallmark of a professional is to know the limits of one’s own professional knowledge.”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Legal and Ethical Perspectives in Health Care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as Scope of Practice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amednews.com/article/20090309/profession/303099970/2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acfas.org/uploadedFiles/Physicians/Research_and_Publications/Update_Newsletter/v17n6.pd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om the Texas Nursing Board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ttp://www.bon.texas.gov/practice/apn-scopeofpractice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following questions may help to clarify whether a new activity/procedure can be incorporated into an individual's scope of practi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 it consistent with one's professional scope of practi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 it consistent with statutory or regulatory law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 it consistent with one's education in the role and special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om the Texas Nursing Board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ttp://www.bon.texas.gov/practice/apn-scopeofpractice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 it consistent with the scope of one's recognized title or does it evolve into another advanced practice title recognized by the board requiring additional formal education and legal recogni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 it consistent with the Standards of Nursing Practice outlined in Board Rule 217.11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 it consistent with evidence-based ca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 it consistent with reasonable and prudent practic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e you willing to accept accountability and liability for the activity and outcom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cen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fined as -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“A mandatory credentialing process established by law, usually at the state level, that grants the right to practice certain skills and endeavors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ach state offers its own examination for licensure for physician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 Som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llied heal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fessions hav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ational licensure/certification exam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o apply for a licens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vide proof of education and tra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vide detailed work hi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ss an examination designed to assess knowledge and their ability to apply that knowledge and other concepts and principles important to ensure safe and effective patient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veal information about past medical history (including alcohol and drug abuse), arrests, and convi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Loss of license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roug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List 4 ways in which a medical professional might lose their license to pract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hysical abuse of a pat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nadequate record 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ailure to recognize or act on common symp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e prescription of drugs in excessive amounts or without legitimate rea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mpaired ability to practice due to addiction, or physical or mental ill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6:17:47Z</dcterms:created>
  <dc:creator>ANITAW</dc:creator>
  <dc:description/>
  <dc:language>en-US</dc:language>
  <cp:lastModifiedBy>ANITAW</cp:lastModifiedBy>
  <dcterms:modified xsi:type="dcterms:W3CDTF">2013-04-05T13:36:00Z</dcterms:modified>
  <cp:revision>43</cp:revision>
  <dc:subject/>
  <dc:title>Slide 1</dc:title>
</cp:coreProperties>
</file>